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510F-8E85-4889-BC00-9E758E6AD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Acid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Br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I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acid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acid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base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base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3+  + 6 H2O    Al (H2O)63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l3+  + 6 H2O    Al (H2O)63+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2AA-EDC1-46FA-A714-5C5198B9A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342-640B-41A8-B501-C82FCF45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8DC-02A8-4F9B-92E2-02F92CAE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5B82-2043-4000-A700-BB6C3E92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43D-A291-4269-A3FE-172985E1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AB8-B051-45FC-A1FE-9CEBF60E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8A7-55DF-4742-9F94-904AB4CD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1DC0-37EF-445A-846D-31EF3D37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D32-C8F3-4DCD-B5FA-32D596E5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FED-BC2F-4E9E-8FE3-8C949FC5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C5E-0418-4066-890E-31C1DAD3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B93-EB67-4B67-8F79-53B0D2E6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1D52-6245-4C91-8F5B-A6AE171E6CFC}" type="slidenum"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CIDS AND BASES</a:t>
            </a:r>
            <a:br>
              <a:rPr sz="4400"/>
            </a:b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Strong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sentially go to 100% ioniza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sing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Acid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B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r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→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ally dissociate or ionize, reaching so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equilibrium stat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doub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C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⇌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 +  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s and bases significant in biologic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arboxylic Acids: (weak acid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or RCO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on formed by ionization is resonance stabilize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: pyruvic acid, lactic acid,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mines: (weak base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ammonia, with differing # of “R” group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, secondary, tertiar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acids can donate more than one proton     sequentially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bases can accept more than one proton sequentiall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I. Self-Ionization of Water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 water slightly ionizes on its own (autoionize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equilibrium reactant favored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termine th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alu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 fontScale="7000"/>
          </a:bodyPr>
          <a:p>
            <a:pPr marL="2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for water ionization =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ionization constant for water 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= ion product constant for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= 1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4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t 25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and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for pure water at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752480" y="838080"/>
            <a:ext cx="80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True for Water and Dilute Aqueous Solu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(Including Acid and Base Solutions of Interest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g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asic Solu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l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V. pH Scale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most aqueous weak acid and base solutions, th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centrations are very small.  Easier to express concentrations using a logarithmic relationship.     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 = - log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us: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H = -log [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OH = -log [O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-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+ (-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= -log (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      +      pOH       =     14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H  +  pOH = 14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pH Scale</a:t>
            </a:r>
            <a:endParaRPr b="0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02" name="Picture 3" descr="FG15_04"/>
          <p:cNvPicPr/>
          <p:nvPr/>
        </p:nvPicPr>
        <p:blipFill>
          <a:blip r:embed="rId1"/>
          <a:stretch/>
        </p:blipFill>
        <p:spPr>
          <a:xfrm>
            <a:off x="152280" y="3100320"/>
            <a:ext cx="88138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2895480" y="1676520"/>
            <a:ext cx="3200400" cy="1218960"/>
          </a:xfrm>
          <a:prstGeom prst="wedgeRectCallout">
            <a:avLst>
              <a:gd name="adj1" fmla="val -75148"/>
              <a:gd name="adj2" fmla="val 73305"/>
            </a:avLst>
          </a:prstGeom>
          <a:solidFill>
            <a:srgbClr val="c6f4ca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pH is 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cale, cola drinks (pH about 2.5) are about ____ times as acidic as tomatoes (pH about 4.5)</a:t>
            </a:r>
            <a:endParaRPr b="0" lang="en-US" sz="1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I. Arrhenius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What we have been using to this point)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Acid</a:t>
            </a:r>
            <a:r>
              <a:rPr b="0" lang="en-US" sz="3200" spc="-1" strike="noStrike">
                <a:solidFill>
                  <a:srgbClr val="1dfa0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increases the concentration of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gen ion,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nium ion 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Base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oncentration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ide ions,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****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is the same as 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pH = -log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2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H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or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H) =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3)  pOH = -log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4) 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OH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or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) =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5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6)  pH + pOH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A blood sample (considered a dilute aqueous solution) contains 7.2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l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er liter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pH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 Is the blood sample acidic, basic, or neutral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The pH of an aqueous solution is 8.7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pOH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V. Strong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ong acids and bases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dergo essentially complete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sociation (ionization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Equilibrium expressions not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needed for problem solving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pH and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for a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5 M HCl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13" name="Picture 4" descr="D:\Chapter_15\B_Images\15_04_Figure.jpg"/>
          <p:cNvPicPr/>
          <p:nvPr/>
        </p:nvPicPr>
        <p:blipFill>
          <a:blip r:embed="rId1"/>
          <a:stretch/>
        </p:blipFill>
        <p:spPr>
          <a:xfrm>
            <a:off x="5867280" y="1600200"/>
            <a:ext cx="307836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99ffcc"/>
                </a:solidFill>
                <a:uFillTx/>
                <a:latin typeface="Times New Roman"/>
              </a:rPr>
              <a:t>Problem Solving for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only dissociate or ionize parti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means we have an equilibri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tion, and can solve problems using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we learned earlier for d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equilibrium problems.  (ICE tables…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ilibrium Constants (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aci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.  Weak Acid Equilibrium Rxns</a:t>
            </a: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acid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id:    HA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      HA(aq)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 What does the 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ell you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stronger acid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ore of the acid ionize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water to form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Which is the strongest aci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et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r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7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Chapter_15\B_Images\15_05_Table.jpg"/>
          <p:cNvPicPr/>
          <p:nvPr/>
        </p:nvPicPr>
        <p:blipFill>
          <a:blip r:embed="rId1"/>
          <a:stretch/>
        </p:blipFill>
        <p:spPr>
          <a:xfrm>
            <a:off x="1225440" y="0"/>
            <a:ext cx="6831000" cy="67197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10 M solution of phenol (weak acid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H of 5.43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henol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Acid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monoprotic acid, parahydroxybenzoic acid, has 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2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200 M solution of parahydroxybenzoic acid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What is the pH of the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What percent of the parahydroxybenz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acid has ionized in this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’s =  7.5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,  6.2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8,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.6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3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 the three acid ionization equations wit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their accompany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Which is the strongest acid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How would you go about calculating the pH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give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lution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Chapter_15\B_Images\15_01_Table.jpg"/>
          <p:cNvPicPr/>
          <p:nvPr/>
        </p:nvPicPr>
        <p:blipFill>
          <a:blip r:embed="rId1"/>
          <a:stretch/>
        </p:blipFill>
        <p:spPr>
          <a:xfrm>
            <a:off x="298440" y="642960"/>
            <a:ext cx="854712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. Weak Base Equilibrium Rxn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(base will accept proton from H</a:t>
            </a:r>
            <a:r>
              <a:rPr b="1" lang="en-US" sz="2400" spc="-1" strike="noStrike" baseline="-25000">
                <a:solidFill>
                  <a:srgbClr val="99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O, forming OH</a:t>
            </a:r>
            <a:r>
              <a:rPr b="1" lang="en-US" sz="24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base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base:    B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Chapter_15\B_Images\15_08_Table.jpg"/>
          <p:cNvPicPr/>
          <p:nvPr/>
        </p:nvPicPr>
        <p:blipFill>
          <a:blip r:embed="rId1"/>
          <a:stretch/>
        </p:blipFill>
        <p:spPr>
          <a:xfrm>
            <a:off x="298440" y="380880"/>
            <a:ext cx="8547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Relative Strength of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mmonia is 1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phosphate ion is 2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is the strongest bas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Which will have a higher pH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ammonia solution, 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phosphate ion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ain killer, morphine, is a weak base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01 M morphine solution has a pH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1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morph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Base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base methylamine 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5.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080 M aqueous solu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ylam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.  Write the chemical equa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b.  Write the base ionization equilibrium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express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.  Calculate the [OH</a:t>
            </a:r>
            <a:r>
              <a:rPr b="1" lang="en-US" sz="2400" spc="-1" strike="noStrike" baseline="30000">
                <a:solidFill>
                  <a:srgbClr val="66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], pOH, and pH for solu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I. Relationship of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 and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*  Reaction will go in direction of stronger acid an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ase to the weaker acid and bas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 Compar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decide direction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Mathematical Relationship of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and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for previous equation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=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 x 10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+ 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685800" y="1447920"/>
          <a:ext cx="777240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the dihydrogen phosphate ion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6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its conjugate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how the chemical reaction to whic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applies f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Determin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lue for H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Which direction is the reaction favore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X. Acid-Base Reactions of Salt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(Ions as Acids and Bases)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Ionic compounds (salts) formed from acid-base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ction.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  +   MOH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cid        base              salt    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The salt (MA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ave the resulting aqueou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 to be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eutral, acidic, or 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t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ct with water (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ydrolysis rea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nvolving the splitting of a water molecu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to produce acidic or basic solutions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hypothetical ionic compound MA, consisting of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ation and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ion, consid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and possible consequence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(OH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-1)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idic solu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H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+1)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ic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cation and anion hydrolyze, compar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Chapter_15\B_Images\15_02_Table.jpg"/>
          <p:cNvPicPr/>
          <p:nvPr/>
        </p:nvPicPr>
        <p:blipFill>
          <a:blip r:embed="rId1"/>
          <a:stretch/>
        </p:blipFill>
        <p:spPr>
          <a:xfrm>
            <a:off x="298440" y="1703520"/>
            <a:ext cx="854712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 Write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rxns for salt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one for cation and one for anion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 Look at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products.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If a strong acid or strong base was hypotheticall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d, these hydrolysis reaction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 NOT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.   No acid or base properties up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.   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Recall Table of Strong Acids and Base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 If a weak acid or base was produced, the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 and produce acid 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 properties.  For hydrolysis product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: acidi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 : Basic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n aqueous solution of the salt be acidic,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, or neutral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Na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Cumulative Example Problem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yanate ion, OC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is a weak base. 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HOCN (cyanic acid) is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Calculate the pH of a 0.200 M solution of NaOC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X.  Lewis Acids and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NaOH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6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Al (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Aci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accept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ccepts a pair of electrons to form a new bond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Usually has an incomplete octet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B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don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onates a pair of electrons to form a new bond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Must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at least one lone pair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XI.  Acid Rain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Read Section 15.12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cid rain and what are its environmental effects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. Bronsted-Lowry Acids &amp;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Bronsted Aci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ton) don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onizable hydrogen in the acid structure is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ually bonded to an electronegative atom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Bronsted Bas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roton) accept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e structure must have an unshared pair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lectr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Cl +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H  </a:t>
            </a:r>
            <a:r>
              <a:rPr b="1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  +  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:  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F  +  H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H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+  F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acid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 base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accept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base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n acid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donated or remov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ample: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the conjugate base of 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What is the conjugate acid of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bel all species in the following reac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3:16:08Z</dcterms:created>
  <dc:creator>Senkbeil</dc:creator>
  <dc:description/>
  <dc:language>en-US</dc:language>
  <cp:lastModifiedBy>LEGION</cp:lastModifiedBy>
  <dcterms:modified xsi:type="dcterms:W3CDTF">2017-01-26T09:11:09Z</dcterms:modified>
  <cp:revision>47</cp:revision>
  <dc:subject/>
  <dc:title>ACIDS AND BASES</dc:title>
</cp:coreProperties>
</file>